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480600"/>
            <a:ext cx="860760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login käyttö opetuksen ja ohjauksen tuken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99284c"/>
                </a:solidFill>
                <a:latin typeface="Arial"/>
              </a:rPr>
              <a:t>Tiina, Tarja, Tari ja Sirpa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login käytön hyvät puole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Opetus monipuolistuu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Kynnys tietokoneeseen madaltuu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Materiaalin saa blogiin opiskelijoiden saatavill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4. Opiskelumotivaatio lisäänty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5. Erilainen oppimisympäristö, tukee erilaisia oppimistapoj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6.Tiedon jakaminen muille helppo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7. opiskelijoiden toistensa kannustamine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8. Oman oppimista seurat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login käytön huonot puole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Työlä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Käytön haastavuu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Ei tue kaikkia opiskelumutoj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4. Tarvittavat muut ohjelmat ja ympäristö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login pedagoginen käytettävyys yläkouluss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gi ei välttämättä sovellu kaikkeen eikä ehkä yläkoulussa tapahtuvaan opiskeluun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tivaation merkity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yhmätöiden tekemiseen wiki ja käsite-kartt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erkko-oppimisympäristöä voisi käyttää yläkoulussa esim. Koetilanteess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ttp://mind42.com/pub/mindmap?mid=ec834bcc-1e83-4cc3-935b-7f5aa73c295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Pohdint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Sisältö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 Johdant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 Oppimisympäristö ja oppimisen strategi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 Affordanssiteor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4 Blogin pedagoginen käytettävyy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5 Pedagoginen käytettävyys yläkouluss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6 Pohdint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ähtee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Johdanto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erkko-opetus yhä merkitsevämmäksi osaksi opetusta eri kouluasteill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gialustat ovat helppokäyttöisiä ja mahdollistaa osallistumisen keskusteluihi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git soveltuvat hyvin opetuskäyttöö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aatii opettajilta kouluttautumista ja taitojen kehittämistä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pettajan “läsnäolo” tehtävä näkyväksi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yön tavoite esimerkin avulla kuvata blogin käyttöä opetuksess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480600"/>
            <a:ext cx="860760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Oppimisympäristö ja oppimisen strategi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ietoisia kognitiivisia toimintoja, joiden avulla oppija pyrkii saavuttamaan oppimistehtävälle asettamansa tavoittee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ymmärtävän oppimisen voi saavuttaa todennäköisemmin käyttämällä oppimisen strategioit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ppimisympäristö ohjaa oppijan käyttämien strategioiden valinta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yperteksti ei tuota parempaa oppimista, vaan merkityksellisiä ovat tekstin prosessoinnin strategia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Oppimisen strategiat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harjoittelustrategiat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eloborointistrategiat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organisointistrategi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4. metakognitiiviset strategi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5. affektiiviset strategiat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erkko-oppimisympäristössä on helppo havaita oma ja muiden toiminta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pettajan on helppo havaita, miten kukin oppija etenee ja milloin tukea tarvitaa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Affordanssiteori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arkoittaa toimijan ja ympäristön välistä vuorovaikutusta, jolloin huomioidaan opiskelijan ominaisuudet ja tarpeet sekä ympäristön tarjoamat mahdollisuude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ivät ole ympäristön tai yksilön ominaisuuksia, resursseja tai piirteitä, vaan muodostuvat vuorovaikutuksessa, havaitsemisessa, toiminnasssa, oppimisessa näiden välil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Affordanssiteori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gin tärkein käyttömahdollisuus on tiedon jakaminen tietylle intressiryhmäl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gi ei mahdollista reaaliaikaista läsnä- oloa, mutta asynkroninen keskustelu ja kommentointi kuuluvat blogin teknisiin omi-naisuuksii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login pedagoginen käytettävyys lukion opinnoiss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Käytettävyys onmitta siitä, miten hyvin  käyttäjät voivat käyttää esim. oppimisympäristöä opiskelussa ja samalla saavuttaa asetetut tavoittee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simerkkinä lukio-opintojen tukena kurssi-blogin käyttö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pettaja aktiiivinen osallistuja esim. akti-voimalla ja kannustamall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Esimerkkinä blogi lukio-opinnoiss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gista löytyisi tunneilla käyty materiaali, jos opiskelija joutuu olemaan pois tunnilt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Kurssiblogin sisältö;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ilmoitustaulu, jonne mm. tehtäväanno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keskustelukanav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palautekanava, kaksisuuntaine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linkkivinkit mm. julkaisuja tai vanhoja ylioppilaskokeit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linkki opiskelijan omaan oppimisblogii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imisi ainakin osana lukio-opintoj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5:47:20Z</dcterms:created>
  <dc:creator>Sirpa Erkkilä-Häkkinen</dc:creator>
  <dc:description>General introduction of a new product taking customer wishes into account</dc:description>
  <dc:language>en-US</dc:language>
  <cp:lastModifiedBy/>
  <cp:revision>1</cp:revision>
  <dc:subject/>
  <dc:title>Introducing a New Product</dc:title>
</cp:coreProperties>
</file>